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21.png" ContentType="image/pn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9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32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gif" ContentType="image/gif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E376-27C9-44FD-8ECD-0973727F0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 even, as all are diploid, contain pairs of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CB90-82B3-4D54-B41B-E98B80879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5CCA-355C-499C-AE3F-F4D83F884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0A48-8B6D-47D6-B71F-A0406CE8D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D3C7A-0CD2-428C-B1E7-890931A4C6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9D2A-C106-40EA-AA41-583CC65C0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91AC-5098-4DFD-82C2-3E7CFC69A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FA46-42F9-475B-B2DF-69D67A864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82D2-ED9E-42D8-811B-B584337AD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2527-652C-4CBF-ABCD-F4085B250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BF67-4556-4734-80F7-8A844A27C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E103-EFF4-4883-B674-FCFE46BDA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8244-9D46-4FA2-8517-FB90B209F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iosis 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29E0-6005-4BD9-B1A6-79337AFBE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slc.genetics.utah.edu/units/disorders/karyotype/karyotype.cf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ccessexcellence.org/AB/GG/comeiosis.html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iosis and genetic varia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p193-1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ECA3-D1F3-410E-B98F-80AA04052A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3-x3-HumanFemaleKaryo" descr=""/>
          <p:cNvPicPr/>
          <p:nvPr/>
        </p:nvPicPr>
        <p:blipFill>
          <a:blip r:embed="rId2"/>
          <a:stretch/>
        </p:blipFill>
        <p:spPr>
          <a:xfrm>
            <a:off x="985680" y="739800"/>
            <a:ext cx="7172640" cy="537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89C4-C86E-44F4-9527-5B3594E640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3-x5-HumanMaleKaryo" descr=""/>
          <p:cNvPicPr/>
          <p:nvPr/>
        </p:nvPicPr>
        <p:blipFill>
          <a:blip r:embed="rId2"/>
          <a:stretch/>
        </p:blipFill>
        <p:spPr>
          <a:xfrm>
            <a:off x="985680" y="739800"/>
            <a:ext cx="7172640" cy="537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040D-77F6-42C4-BEBB-6C3B65CDB2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5-14a-Trisomy21Karyotype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05920" cy="6227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95680" y="5410080"/>
            <a:ext cx="1067040" cy="762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14800" y="380880"/>
            <a:ext cx="442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wn's Syndrom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BFF2-A311-4C19-AEDB-CB33F6ACA3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gslc.genetics.utah.edu/units/disorders/karyotype/karyotype.cfm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Karyotype Activity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79B8-A7C8-45ED-8811-6443F8B589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Homologu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romosomes exist in homologous pairs in diploid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homolog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15200" cy="173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46280" y="4459320"/>
            <a:ext cx="72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ception: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ex chromosom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(X, 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ther chromosomes are known as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utosom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they have homolog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D9F6-F571-4277-8E57-92C4632432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In humans …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3 chromosomes donated by each parent (total = 46 or 23 pai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ametes (sperm/o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tain 22 autosomes and 1 sex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re haploid (haploid number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 “n” = 23 in human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rtilization/syngamy results in zygote with 2 haploid sets of chromosomes - now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iploid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iploid cell;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2n = 46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.  (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n=23 in human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st cells in the body produced by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mitosi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nly gametes are produced by </a:t>
            </a:r>
            <a:r>
              <a:rPr b="1" i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me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5F02E-18A7-41C4-9FD0-13023221AB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Chromosome number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37160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ff"/>
                </a:solidFill>
                <a:latin typeface="Arial"/>
              </a:rPr>
              <a:t>All are </a:t>
            </a:r>
            <a:r>
              <a:rPr b="1" lang="en-CA" sz="2800" spc="-1" strike="noStrike">
                <a:solidFill>
                  <a:srgbClr val="0000ff"/>
                </a:solidFill>
                <a:latin typeface="Arial"/>
              </a:rPr>
              <a:t>even</a:t>
            </a:r>
            <a:r>
              <a:rPr b="0" lang="en-CA" sz="2800" spc="-1" strike="noStrike">
                <a:solidFill>
                  <a:srgbClr val="0000ff"/>
                </a:solidFill>
                <a:latin typeface="Arial"/>
              </a:rPr>
              <a:t> numbers – diploid (2n) sets of homologous chromosom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4800600"/>
            <a:ext cx="36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800080"/>
                </a:solidFill>
                <a:latin typeface="Arial"/>
              </a:rPr>
              <a:t>Ploidy = number of copies of each chromosome.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iploi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chrom_chart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42624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6D81-2469-42A9-A21F-9760A04F99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Meiosis – key differences from mitosi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iosis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reduces the number of chromosomes by half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differ from par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and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iosis involves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two division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Mitosis only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iosis I invol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ynapsi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– homologous chromosomes pair up.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hiasmata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form (</a:t>
            </a:r>
            <a:r>
              <a:rPr b="0" i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crossing over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f non-sister chromati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Metaphase I,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homologous pairs line up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t metaphase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Anaphase I,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sister chromatids do NOT separat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verall,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eparation of homologous pairs of chromosom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rather than sister chromatids of individual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3A16-B41E-4569-99C6-7D2752DC6F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3-06-MeiosisOverview-L" descr=""/>
          <p:cNvPicPr/>
          <p:nvPr/>
        </p:nvPicPr>
        <p:blipFill>
          <a:blip r:embed="rId2"/>
          <a:stretch/>
        </p:blipFill>
        <p:spPr>
          <a:xfrm>
            <a:off x="114300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9F3F-7716-42F7-B20B-221F968238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3-07-MeiosisArtLeft-L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CA07-7F4A-4A1B-AF3C-C3AA960FC4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Genom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enom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Complete complement of an organism’s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lude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gen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control traits) and non-coding DNA organized i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laquer_boxes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8E74-1BEE-4D44-9E9D-F9E67EFF7B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3-07-MeiosisArtRight-L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914400" y="6210360"/>
            <a:ext cx="719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've Probably Messed All This Up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DB06-A618-41F5-9122-747CD3685B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6" name="sm-meiomove" descr="Meiosis Movie"/>
          <p:cNvPicPr/>
          <p:nvPr/>
        </p:nvPicPr>
        <p:blipFill>
          <a:blip r:embed="rId2"/>
          <a:stretch/>
        </p:blipFill>
        <p:spPr>
          <a:xfrm>
            <a:off x="0" y="18288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97" name="meiosis" descr=""/>
          <p:cNvPicPr/>
          <p:nvPr/>
        </p:nvPicPr>
        <p:blipFill>
          <a:blip r:embed="rId3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3CCA-5E11-4145-BADF-88A6D290E6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iosis 1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division of mei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hase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hromosome dupicates and remains closely associated. These are called sister chromatids.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Crossing-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occur during the latter part of this s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phas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omologous chromosomes align at the equatorial pl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phas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omologous pairs separate with sister chromatids remaining toge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ophase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wo daughter cells are formed with each daughter containing only one chromosome of the homologous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66B9-5371-4363-9BD6-BB1DC0AC72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iosis II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division of meiosi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 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hase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NA does not replic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phase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hromosomes align at the equatorial pl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ase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entromeres divide and sister chromatids migrate separately to each p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ophase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ell division is complete. Four haploid daughter cells are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82BA-64BE-4A99-A424-D16E7D7650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Mitosis vs. meiosi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3" name="13-08a-MitosisMeiosis-L" descr=""/>
          <p:cNvPicPr/>
          <p:nvPr/>
        </p:nvPicPr>
        <p:blipFill>
          <a:blip r:embed="rId2"/>
          <a:stretch/>
        </p:blipFill>
        <p:spPr>
          <a:xfrm>
            <a:off x="0" y="1009800"/>
            <a:ext cx="9144000" cy="58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4424-5C47-4BB5-9B25-2E16DBD92D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3-08b-MitosisMeiosisSum-L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3D2D-2417-4E12-A6CD-422EC5F605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eiosis creates genetic varia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normal cell growth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to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duces daughter cells identical to parent 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2n to 2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i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sult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 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uff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ternal and paternal chromosomes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ossing ove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daughter cells formed during meiosis are genetically identical to either mother or f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sexual reproduc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usion of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ique haploid gametes produces truly unique offsprin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6AC5-A4BC-49EA-8EC3-11A4044718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Independent assortmen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8" name="13-09-IndependAssortment-L" descr=""/>
          <p:cNvPicPr/>
          <p:nvPr/>
        </p:nvPicPr>
        <p:blipFill>
          <a:blip r:embed="rId2"/>
          <a:stretch/>
        </p:blipFill>
        <p:spPr>
          <a:xfrm>
            <a:off x="533520" y="1014480"/>
            <a:ext cx="8229600" cy="58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0833-E6EC-47A3-A8EA-F8405A8FE4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Independent assortmen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umber of combinations: 2</a:t>
            </a:r>
            <a:r>
              <a:rPr b="0" lang="en-CA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3-09-IndependAssortment-NL" descr=""/>
          <p:cNvPicPr/>
          <p:nvPr/>
        </p:nvPicPr>
        <p:blipFill>
          <a:blip r:embed="rId2"/>
          <a:stretch/>
        </p:blipFill>
        <p:spPr>
          <a:xfrm>
            <a:off x="1905120" y="1835280"/>
            <a:ext cx="5029200" cy="315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32000" y="5334120"/>
            <a:ext cx="4664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.g. 2 chromosomes in hapl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n = 4;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CA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 = 2</a:t>
            </a:r>
            <a:r>
              <a:rPr b="0" lang="en-CA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 = 4 possible comb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4191120"/>
            <a:ext cx="990360" cy="8380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191120"/>
            <a:ext cx="9907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4191120"/>
            <a:ext cx="990360" cy="838080"/>
          </a:xfrm>
          <a:prstGeom prst="ellipse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191120"/>
            <a:ext cx="990720" cy="8380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CAA8-CF20-4C4B-B6EB-0D5EA7891E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In human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53760" y="5334120"/>
            <a:ext cx="6058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.g. 23 chromosomes in hapl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n = 46; n =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CA" sz="2400" spc="-1" strike="noStrike" baseline="30000">
                <a:solidFill>
                  <a:srgbClr val="ff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 = 2</a:t>
            </a:r>
            <a:r>
              <a:rPr b="0" lang="en-CA" sz="24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 = ~ 8 million possible combina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karyotype" descr=""/>
          <p:cNvPicPr/>
          <p:nvPr/>
        </p:nvPicPr>
        <p:blipFill>
          <a:blip r:embed="rId2"/>
          <a:stretch/>
        </p:blipFill>
        <p:spPr>
          <a:xfrm>
            <a:off x="762120" y="1130400"/>
            <a:ext cx="7391160" cy="41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BC10C-CD48-45F0-A285-B9D999049D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562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ukaryotic DNA is organized in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nes have specific places on chromos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ene" descr=""/>
          <p:cNvPicPr/>
          <p:nvPr/>
        </p:nvPicPr>
        <p:blipFill>
          <a:blip r:embed="rId2"/>
          <a:stretch/>
        </p:blipFill>
        <p:spPr>
          <a:xfrm>
            <a:off x="6705720" y="4191120"/>
            <a:ext cx="2070000" cy="2241360"/>
          </a:xfrm>
          <a:prstGeom prst="rect">
            <a:avLst/>
          </a:prstGeom>
          <a:ln w="0">
            <a:noFill/>
          </a:ln>
        </p:spPr>
      </p:pic>
      <p:pic>
        <p:nvPicPr>
          <p:cNvPr id="55" name="base_pairs" descr=""/>
          <p:cNvPicPr/>
          <p:nvPr/>
        </p:nvPicPr>
        <p:blipFill>
          <a:blip r:embed="rId3"/>
          <a:stretch/>
        </p:blipFill>
        <p:spPr>
          <a:xfrm>
            <a:off x="6400800" y="457200"/>
            <a:ext cx="2205000" cy="3137040"/>
          </a:xfrm>
          <a:prstGeom prst="rect">
            <a:avLst/>
          </a:prstGeom>
          <a:ln w="0">
            <a:noFill/>
          </a:ln>
        </p:spPr>
      </p:pic>
      <p:pic>
        <p:nvPicPr>
          <p:cNvPr id="56" name="gene" descr=""/>
          <p:cNvPicPr/>
          <p:nvPr/>
        </p:nvPicPr>
        <p:blipFill>
          <a:blip r:embed="rId4"/>
          <a:stretch/>
        </p:blipFill>
        <p:spPr>
          <a:xfrm>
            <a:off x="3657600" y="5562720"/>
            <a:ext cx="2465280" cy="734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6248160" y="586728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ACD3-897C-4175-95E8-0FB24B33B6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Crossing over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1" name="13-10-CrossingOver-L" descr=""/>
          <p:cNvPicPr/>
          <p:nvPr/>
        </p:nvPicPr>
        <p:blipFill>
          <a:blip r:embed="rId2"/>
          <a:stretch/>
        </p:blipFill>
        <p:spPr>
          <a:xfrm>
            <a:off x="0" y="838080"/>
            <a:ext cx="4027320" cy="601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098960" y="1031760"/>
            <a:ext cx="443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hiasmata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– sites of crossing over, occur in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ynapsi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Exchange of genetic material between non-sister chromat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rossing over produces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combina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Chiasmata" descr=""/>
          <p:cNvPicPr/>
          <p:nvPr/>
        </p:nvPicPr>
        <p:blipFill>
          <a:blip r:embed="rId3"/>
          <a:stretch/>
        </p:blipFill>
        <p:spPr>
          <a:xfrm>
            <a:off x="4191120" y="4495680"/>
            <a:ext cx="4419360" cy="18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34D8-BCE8-4FBF-9167-C3208817D84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harlequin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5943600" cy="5041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Harlequin chromosom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D243-A031-42B3-86D2-2D97CE8F32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andom fertiliza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 least 8 million combinations from Mom, and another 8 million from Da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gt;64 trillion combinations for a diploid zygot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46-11x2-Sperm" descr=""/>
          <p:cNvPicPr/>
          <p:nvPr/>
        </p:nvPicPr>
        <p:blipFill>
          <a:blip r:embed="rId2"/>
          <a:stretch/>
        </p:blipFill>
        <p:spPr>
          <a:xfrm>
            <a:off x="4495680" y="3763800"/>
            <a:ext cx="4500720" cy="3094200"/>
          </a:xfrm>
          <a:prstGeom prst="rect">
            <a:avLst/>
          </a:prstGeom>
          <a:ln w="0">
            <a:noFill/>
          </a:ln>
        </p:spPr>
      </p:pic>
      <p:pic>
        <p:nvPicPr>
          <p:cNvPr id="129" name="46-10-Ovulation" descr=""/>
          <p:cNvPicPr/>
          <p:nvPr/>
        </p:nvPicPr>
        <p:blipFill>
          <a:blip r:embed="rId3"/>
          <a:stretch/>
        </p:blipFill>
        <p:spPr>
          <a:xfrm>
            <a:off x="152280" y="3755880"/>
            <a:ext cx="4267440" cy="3040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66680" y="4495680"/>
            <a:ext cx="1219320" cy="76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7236-AF56-40A1-A95D-698E772832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Meiosis &amp; sexual life cycl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fe cy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sequence of stages in organisms reproductive history; conception to reproduc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= any cell other than gamet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most of the cells in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amet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roduced by me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life_cycle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46880" y="510552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8dc6ff"/>
                </a:solidFill>
                <a:latin typeface="Arial"/>
              </a:rPr>
              <a:t>Generalized animal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339A-EA41-472A-9D14-7652AF64AF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13-05-SexualLifeCycles-L" descr=""/>
          <p:cNvPicPr/>
          <p:nvPr/>
        </p:nvPicPr>
        <p:blipFill>
          <a:blip r:embed="rId2"/>
          <a:stretch/>
        </p:blipFill>
        <p:spPr>
          <a:xfrm>
            <a:off x="1676520" y="152280"/>
            <a:ext cx="52704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6E8D-E6A0-4F98-8848-FCA814415A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ex is costly!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mounts of energy required to find a mate and do the mating: specialized structures and behavior requ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imate contact provides route for infection by parasites (AIDS, syphillis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costs: in sex, we pass on only half of genes to offsp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s are an expensive luxur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 most species they contribute little to rearing offspring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BC026-569B-458B-8FEB-C58DF06804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ut …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genetic diversity: more potential for survival of species when environmental conditions chang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uffling of genes in mei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ing-over in mei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tilization: combines genes from 2 separate individu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back-up and repai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exual organisms don't have back-up copies of genes, sexual organisms have 2 sets of chromosomes and one can act as a back-up if the other is damag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mechanisms, especially recombination, are used to repair damaged DNA - the undamaged chromosome acts as a template and eventually both chromosomes end up with the correct g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3E14-E3B3-4DF0-9B17-30B211C9B7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entri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entrome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rossing ov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game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eios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zygote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120C-6E18-452A-8516-6F8612E170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udy Question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happens as homologous chromosomes pair up during prophase I of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.  How does metaphase of mitosis differ from metaphase I of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 What is the sole purpose of  meiosi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4.  What specific activities, involving DNA, occur during interphase prior to both mitosis and meiosi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7FB4-E6CB-405E-B606-D4BE8474DC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47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5.  Compare mitosis and meiosis on the following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.  number of daughter cell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.  the amount of DNA in the daughter cells in contrast to the original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.  mechanism for introducing genetic var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a zygote and how is it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eneva"/>
                <a:ea typeface="Times New Roman"/>
              </a:rPr>
              <a:t>Draw a nucleotide and then draw a 10 nucleotide linear sequence of DN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1FC9-85CD-405D-B968-DF483A6D1F2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Heredity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red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 of transferring genetic information to offsp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Chromosome theory of hered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hromosomes carry gen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Gen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“unit of heredit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33920" y="1752480"/>
            <a:ext cx="4510080" cy="354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EC72-229B-438A-BC7A-BD4A1D2E9E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Reproduc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y single-celled organisms reproduce by splitting, budding, parthenogen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me multicellular organisms can reproduce asexually, produc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lon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ffspring genetically identical to paren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3-01-Hydra" descr=""/>
          <p:cNvPicPr/>
          <p:nvPr/>
        </p:nvPicPr>
        <p:blipFill>
          <a:blip r:embed="rId2"/>
          <a:stretch/>
        </p:blipFill>
        <p:spPr>
          <a:xfrm>
            <a:off x="990720" y="3711600"/>
            <a:ext cx="2060280" cy="3146400"/>
          </a:xfrm>
          <a:prstGeom prst="rect">
            <a:avLst/>
          </a:prstGeom>
          <a:ln w="0">
            <a:noFill/>
          </a:ln>
        </p:spPr>
      </p:pic>
      <p:pic>
        <p:nvPicPr>
          <p:cNvPr id="64" name="aphids" descr=""/>
          <p:cNvPicPr/>
          <p:nvPr/>
        </p:nvPicPr>
        <p:blipFill>
          <a:blip r:embed="rId3"/>
          <a:stretch/>
        </p:blipFill>
        <p:spPr>
          <a:xfrm>
            <a:off x="4419720" y="4038480"/>
            <a:ext cx="3581280" cy="23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0BB6-8D73-428A-A0D4-1D2D8BF056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Sexual reproductio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usion of two gametes to produce a single zyg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roduces greater genetic variation, allows genetic recombin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th exception of self-fertilizing organisms (e.g. some plants), zygote has gametes from two different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B7DA-911E-4277-93A2-BBFA7608C2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3-x1-SpermAndEgg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4924440" cy="579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896C-1F9C-41A0-8AFD-8FD5427CA4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Chromosom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aryoty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dered display of an individual’s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llection of chromosomes from mitotic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ining can reveal visible band patterns, gross anoma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20AA-2B44-447A-B0C7-7FBD785DA8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Karyotyping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13-03-HumanKaryotype-L4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60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0727-E8BA-444C-BE37-D58FB876B3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7:59:54Z</dcterms:created>
  <dc:creator>adviser</dc:creator>
  <dc:description/>
  <dc:language>en-US</dc:language>
  <cp:lastModifiedBy>marshk</cp:lastModifiedBy>
  <dcterms:modified xsi:type="dcterms:W3CDTF">2004-01-26T18:40:17Z</dcterms:modified>
  <cp:revision>234</cp:revision>
  <dc:subject/>
  <dc:title>PowerPoint Presentation  -  Meiosis</dc:title>
</cp:coreProperties>
</file>